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D74-E7DF-421A-B466-75CEA0BB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F1DC-D459-4D83-ACEC-6FB097D8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9691-B533-473E-A5A1-57687575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FD0-95ED-4DFE-BE03-FE61C713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2E50-3063-479C-963A-DBE36FE6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256-2D38-4D94-8A6D-3E521FBC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B3F2-B106-496E-8DA5-7792B25F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EA1-D9C2-459F-86DB-1159DF7E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AF2-FDE5-4DFC-AC1F-50FD1F45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EB8A-E3AA-4DDC-A2A2-AF67AD2D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ACDC-29FC-41CE-AB3C-D1086ACD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F9C-8EC5-4639-9C06-0F92254C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2B87-5F4A-490A-8BDC-BB4A8C6D4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801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5 de marzo del 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60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A ti te gusta la mus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rite 3 sentences with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ustar, interesar, aburrir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e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remember to use the noun phrases to clarif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rite 3 sentences with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ar, examinar, explica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e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remember to use the noun phrases to clarif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REPASO VERBAL DE LA TAREA 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ia y completa la conversac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TOR: Jose, ¿Dónde (1)____ due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SE:  Ay, doctor. (2)____ duele en todas partes. (3)____ duele la cabeza, (4)_____ duele la gargan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TOR:Muy bien, Jose. (5)_____ voy a examinar. ¿(6)_____ permi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e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10 (1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10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57200" y="22860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rea # 60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0:39:42Z</dcterms:created>
  <dc:creator>Helen Zumaeta</dc:creator>
  <dc:description/>
  <dc:language>en-US</dc:language>
  <cp:lastModifiedBy>Helen Zumaeta</cp:lastModifiedBy>
  <dcterms:modified xsi:type="dcterms:W3CDTF">2015-03-26T12:42:25Z</dcterms:modified>
  <cp:revision>28</cp:revision>
  <dc:subject/>
  <dc:title>Me llamo ________ Clase 7 im La fecha es el 13 de mayo del 2011</dc:title>
</cp:coreProperties>
</file>